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move the slide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791C4-608F-4692-A155-A4A3C52B6A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CCD22-7F01-4CE5-8C6F-C49F10D4F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91C-BBEF-40C7-989D-97565BC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E83-530E-47EF-A5AD-ECFFB1FB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9ED8E-D96D-48CF-9E49-D37DD29A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74669-8D43-4E27-B487-B47C0B4F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B8E3D-B5A0-4A33-86FC-1D2C9589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F8E8-2ECA-41FB-8794-88F4BAB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A2DB0-C0C2-4FA9-A080-AD6261E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73A51-4B7F-4BD9-ACEF-86496BA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FD434-53E2-46BC-A3F8-7AACF1CF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7CADB-025F-45F2-A5BD-ADE332A2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C08ED-819B-489E-810E-73F89489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8BC28-A6AB-4272-A015-79E0BF71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904-FB07-4D02-B18B-2DE0A886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CF40D-D281-4099-81B3-C4344C4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63FFF-E70A-4B54-BF2C-D5C7F49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9B55-61F3-4C84-B8FB-4A2907D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23DA-2287-4CAB-8B49-05449EEB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E6811-E122-45AB-86B5-AF802972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7C9FF-7A94-4FCA-8F9A-627C00B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2B489-6FEC-4B6F-8CD1-241F2CF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A4DC6-A976-49EF-A4A5-B1BCA39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03F7C-7B8F-45EA-84AB-81D41CF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EE12-5677-4F47-8DE6-8D61F457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6E0-1F31-440B-9380-150F5ADF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D532-AE4E-46AE-8932-3F202626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5C71-3402-428B-AE49-B4E04BC2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60086-CF36-4695-A2A6-6C2240E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BF5BD-363B-45B7-89D9-5137D1B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D82A-C87E-4E51-88E8-6FA4F60F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10D52-3947-4736-8CE9-4DFB8B16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5A162-6FE5-4EFE-BD7F-8EA3BF5D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73FA3-601E-4A02-8F6A-E74D422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F06CE-B760-4F1B-B79D-BE3E304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BC179-9712-4888-BB4E-6361F01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DC7-F127-41AA-BB98-9FC408E2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881D0-126E-4C51-9338-3ED4C2CC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9791-EE08-458A-8C0D-590751A6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D7412-8C26-4003-8B27-069B47E0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B504-D34E-4813-8589-2AB954C0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F01-2728-4420-BFE4-7706500B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C3A-BD16-417B-8DCF-CBED857F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ADCA-EC3B-4E5C-9A3D-F5BDC1E5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7AA-CB0C-48CA-8BCD-D3379F1D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95F7-3FCA-42C8-86DC-896354F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9DD-8F16-4465-BB87-B578123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26C-CFF0-44D9-B85E-434BE76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34A-4FA5-42E6-92EA-219E6AD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36C9-374F-41AA-A4D4-3E7AD9D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08A-E180-45A4-8D14-026D13F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ECD-686A-46BD-8A65-663D87A6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B434-70F1-42C1-BCB8-BDE747A8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21F0-6FF0-43FB-AA7D-B3A1C0A8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388C-3202-43A2-AA18-9990E332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08C5-E8C2-437F-9ABB-1D35771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995A-670B-4050-8C19-6F0E73D1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5C7-7E39-4C6A-958A-3A4AF77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0DFE-F5AE-4FFB-913B-AFD84676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4D2B-897D-403A-98D9-0FCF2DA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7F3A-987A-4A75-8847-E0D7FD8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B7E5-9E6C-4D4B-BD65-7B0D3FDC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C565-19B6-4A40-B041-1DED6745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A475-1BB6-4C48-87B6-E3924972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66BF-E675-42C8-9957-1633DDD9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92C7-4EC8-486C-B643-F2B1034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CB7D-D962-4FD0-9182-BDEDA7A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33F2-9D69-4E44-B407-4AB4B09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D1E-34E1-4749-879D-EE30133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29A4-7841-4DAD-84BA-3146D8C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5CEB-7073-4F95-99F4-2FA01AC6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9245-1967-4B84-AF06-1B13C24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F52A-31F2-4D49-966D-747CA827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73D4-AB44-4CD0-B1BA-9391EB3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E03A-1929-4844-A78F-6F527F4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D709-5B04-43D6-85C2-297E4F2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C383-BEDB-4F85-AD58-A13E6EA3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A21C-AD22-449C-9EEB-5C811AA9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5255-F711-4942-B11D-AD255AD3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DF6-FC94-4C01-B065-40D35F10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7D8D-FBB9-4409-B988-3A69B87B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6467-0D68-44E9-BDBE-2F295D2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ADBB-5513-44B1-A7A5-C142E4A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9DDA-43BD-4CC4-BF64-1C96A73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2891-C168-4C62-99A1-614B539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83F7-6F5B-4BAC-983D-CB03F54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857CE-6AF9-4986-A972-814FA1C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ED85-D368-4CE8-9E05-F0FEFA1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5C5D-56E3-49D0-8BE6-64C670B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5C7D-225A-4B42-8DCC-C3FDDC42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D3A-9356-4494-84E3-86E4448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E580-FD40-4677-AD39-0DC1C3DB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EBE6-996B-4D86-8691-ED786AA8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E467-4A56-4464-B328-98234E5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0BD6-17C3-43D6-A381-860C2AE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EEEA-C5F7-46C0-ADB5-C560962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77E43-22F7-49CB-8342-0104C6D7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9F97-D88E-4BCB-A8B1-5313DCC1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69D47-2BE5-437D-B4B4-4D78C1B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9C87-40E1-4EC4-8911-0D7C88C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193D-F7FE-4244-8E42-14987D8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B42-4527-48CC-9241-9847613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0865-4344-4AB0-8030-C76B2B4B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9447-1061-4EA6-AA65-D041258D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502D3-BC91-43DA-A823-058930D2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5C35-585D-46C0-B742-2BE830B2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2B177-F438-4043-AF58-598E77A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8B08-F1F7-4214-B7FE-0D0264A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5DA6-47BF-4405-ACEC-398F35C5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44C2-6BB0-4A82-924F-02BADB5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54DE-CA84-421B-B8A0-FE1E697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22190-F8BF-4D0F-A4F4-A63EECF0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760-D734-4BCF-BA5D-8CDF6D8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293AA-E5BE-46B4-B70D-55539E2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FA9FC-81BE-4F5E-9262-7692FD2E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3CFE-F33F-4F6B-82D3-147402D7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2B52-3884-4AEE-AD95-2D69D01B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046E-B05E-4E62-AE53-F4DB80BA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2F479-762F-4C3F-9F8B-3957E3E1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2386-81BC-4395-968B-5E47129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D15D-2E24-4FFB-BE15-DEA94A2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28FE-18E6-4405-8F73-A95F563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8D181-CAF9-4F73-A3A9-11C86D52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8BD-218A-450A-9838-673C21C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CAC8-72E1-49D1-BB86-9EC3A9E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B031-82A6-49A3-A134-B2CFDCE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131B9-AA65-4705-BD33-C98C1E02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DD6C-1EB0-4118-9812-451150F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6D5F-2346-43C4-8DAE-CF86DF16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5210D-9E0E-4151-A10D-300393E3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03E1-2F2E-4EEE-B829-754D4842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461C-588F-4364-93F9-242D6E65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5E864-9B59-457A-942D-0B9565F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C0481-7A37-401C-83B4-4B8FCB08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ED396-C91E-4C9D-A6FC-F768247EA49B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F1D7E-DE89-4D2A-9F9B-A0608215E17B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18A08-B27D-4639-BE45-A29772523430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0B748-4AA7-4A45-B73B-F30D3482B2A2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C684-227A-4A69-93E3-B1E8C51248C5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1B09F-2418-4382-82C8-62E5AB89720D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CC3D9-6938-4B3C-8C4F-F34050DB2307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57AE1-5A21-42B9-96A6-911FEB4CA91F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371D8-CFDE-45AE-886D-29FF0D47776B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B8742-8ACA-4206-8DC1-697613F7A319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465D8-ADFC-4EC5-876A-21B2F5C02DB4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1800" y="758520"/>
            <a:ext cx="8148600" cy="40417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entury Schoolbook"/>
              </a:rPr>
              <a:t>Действия по сигналу гражданской обороны: «Внимание всем!»</a:t>
            </a:r>
            <a:endParaRPr b="1" lang="en-US" sz="6500" spc="-1" strike="noStrike">
              <a:solidFill>
                <a:srgbClr val="d34817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3" descr=""/>
          <p:cNvPicPr/>
          <p:nvPr/>
        </p:nvPicPr>
        <p:blipFill>
          <a:blip r:embed="rId1"/>
          <a:stretch/>
        </p:blipFill>
        <p:spPr>
          <a:xfrm>
            <a:off x="428760" y="388800"/>
            <a:ext cx="108694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262160" y="1377720"/>
            <a:ext cx="92469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омашнее задание: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262160" y="1404720"/>
            <a:ext cx="93009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анализировать ситуационную задачу: «Произошел выброс аварийно- химически опасного вещества (хлора)». Ваши действия.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25600" y="321840"/>
            <a:ext cx="9693360" cy="139716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4817"/>
                </a:solidFill>
                <a:latin typeface="Century Schoolbook"/>
              </a:rPr>
              <a:t>Спасибо за внимание</a:t>
            </a: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!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rcRect l="0" t="34627" r="49206" b="0"/>
          <a:stretch/>
        </p:blipFill>
        <p:spPr>
          <a:xfrm>
            <a:off x="1531800" y="2374920"/>
            <a:ext cx="4637160" cy="4483080"/>
          </a:xfrm>
          <a:prstGeom prst="rect">
            <a:avLst/>
          </a:prstGeom>
          <a:ln w="0">
            <a:noFill/>
          </a:ln>
        </p:spPr>
      </p:pic>
      <p:sp>
        <p:nvSpPr>
          <p:cNvPr id="502" name="Овал 4"/>
          <p:cNvSpPr/>
          <p:nvPr/>
        </p:nvSpPr>
        <p:spPr>
          <a:xfrm>
            <a:off x="3274920" y="3630600"/>
            <a:ext cx="204840" cy="136440"/>
          </a:xfrm>
          <a:prstGeom prst="ellipse">
            <a:avLst/>
          </a:prstGeom>
          <a:solidFill>
            <a:srgbClr val="000000"/>
          </a:solidFill>
          <a:ln w="140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2"/>
          <a:stretch/>
        </p:blipFill>
        <p:spPr>
          <a:xfrm>
            <a:off x="4021200" y="3484440"/>
            <a:ext cx="21888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1800" y="281160"/>
            <a:ext cx="9691560" cy="9014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262160" y="1828440"/>
            <a:ext cx="903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8316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Средства оповещения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483" name="Объект 4" descr=""/>
          <p:cNvPicPr/>
          <p:nvPr/>
        </p:nvPicPr>
        <p:blipFill>
          <a:blip r:embed="rId1"/>
          <a:stretch/>
        </p:blipFill>
        <p:spPr>
          <a:xfrm>
            <a:off x="1262160" y="1463760"/>
            <a:ext cx="93582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1800" y="185400"/>
            <a:ext cx="9691560" cy="701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ействия при звуке сирены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61800" y="1023840"/>
            <a:ext cx="99154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ается общий сигнал «Внимание всем!» – звук сирены или прерывистые гудки предприятий, – а затем следует информация о характере угрозы и конкретные рекомендации по защите и действиям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ключите полную громкость приемника радиовещания или включите телевизор на любой местный новостной канал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 каналам телевидения и по радио будет передаваться речевая информация о сложившейся обстановке и порядке действия населения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ностью прослушав и поняв речевую информацию, необходимо выполнить все рекомендаци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первую очередь необходимо взять документы, деньги и по возможности запас еды и питьевой воды на сутк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забирайте детей из школы и детского сада. Это может задержать их отправку в безопасные места. О Ваших детях есть кому позаботиться. Их защита предусмотрена в первую очередь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информируйте соседей по подъезду и месту жительства — возможно, они не слышали передаваемой информации. Пресекайте немедленно любые проявления паники и слух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593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1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261800" y="1023840"/>
            <a:ext cx="969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удоремонтном заводе произошла утечка радиации из ядерного отсека подводной лодки. Радиоактивное облако движется в сторону населенного пункта. В городе объявлен режим чрезвычайной ситуации и звучит сигнал «Внимание всем!» Сообщение о ЧС застало вас на улице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зовите средства необходимые по сохранению и защите своего здоровья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сигнал застал вас на улице:</a:t>
            </a:r>
            <a:br>
              <a:rPr sz="4000"/>
            </a:b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2160" y="845640"/>
            <a:ext cx="8594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Прослушать экстренное сообщение, передаваемое уличными громкоговорителями и подвижными средствами оповещения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Действовать в соответствии с переданным сообщение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Объект 3" descr=""/>
          <p:cNvPicPr/>
          <p:nvPr/>
        </p:nvPicPr>
        <p:blipFill>
          <a:blip r:embed="rId1"/>
          <a:stretch/>
        </p:blipFill>
        <p:spPr>
          <a:xfrm>
            <a:off x="1262160" y="69840"/>
            <a:ext cx="945828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6620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2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261800" y="1091880"/>
            <a:ext cx="96915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 находитесь в частном доме, рядом с красивой полноводной рекой. Ещё днём пошел сильный дождь, который к вечеру только усилился. Возникла угроза затопления местности. В 3ч 15мин Вы проснулись от звука сирены оповещения. Вода быстро прибывает и начинает затапливать до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 в сложившейся ситуации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ьте, что вы собираете рюкзак для экстренной эвакуации. Что Вы с собой возьмете? Дайте краткое пояснение необходимости каждого предмета. 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10033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наводнение застало вас внезапно: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61800" y="1446120"/>
            <a:ext cx="95742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ыстрее занять возвышенное место и быть готовым к эвакуации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нять меры к подаче сигналов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безопасном месте нужно находиться до спада воды, самоэвакуацию можно проводить только в случае реальной угрозы вашей жизни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7T13:15:11Z</dcterms:created>
  <dc:creator>el4467930@gmail.com</dc:creator>
  <dc:description/>
  <dc:language>en-US</dc:language>
  <cp:lastModifiedBy>sch10-17</cp:lastModifiedBy>
  <dcterms:modified xsi:type="dcterms:W3CDTF">2025-09-24T09:29:42Z</dcterms:modified>
  <cp:revision>12</cp:revision>
  <dc:subject/>
  <dc:title>Действия по сигналу гражданской обороны: «Внимание всем!»</dc:title>
</cp:coreProperties>
</file>